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74A2-7D54-4087-BFA6-01F5C4749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375C-5DA4-4169-9DAA-72E6CF42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F572-CEFC-408E-84DB-E31DE9AE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EFEE-CC97-4D9E-8A5D-F6F20785C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FBE8-F5FE-47A7-9926-B4436D0B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DFF2-749A-4DB6-ABFF-B1B28FDC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0D94-CB19-4DA7-B23B-111CBA73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1A6A-F197-4AB3-84F0-1DDC7F7A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4055-6138-4D80-93B2-C2908B44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0DDB-9CEF-48F8-A5F0-54237B80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E5EC-9DD4-4C4C-9E70-C860CB4E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8977-11EC-4E9B-ACF7-7902B3AC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5A85-A0A4-4E7C-BA2A-86D584B0FC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-Based Microbi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30) Chlamydia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Chlamydia trachomat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ultiple sexual part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wer abd pain, vaginal discharge, dysuria, cervical motion tendern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lvic Inflammatory Dise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m- cell layers w/ LP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rotypes D-K most comm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st frequently reported STD in 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lementary bodies (EB) enter columnar epithelial cells of cervix becoming reticulate bodies (RB) which multiply and release EBs, inflamm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x: Doxycycline (and cefoxitin for anerob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31) Trichomoniasis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Trichomonas vaginal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xually promiscuo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ellow, foamy vaginal discharge with foul od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awberry cervix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tile, pear shap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uman-only ho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shy odor with KOH t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 stippled “clue cells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flammatory response (vaginitis) with PMNs present, direct damage causes microulcerations, increased vaginal p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st men asymptomat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x: Metronidaz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32) Candidiasis (Yeast Infection)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Candida albica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ck whitish vaginal dischar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ulvar it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nys sexual activ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cent ATB u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east with pseudohyphae, produce chlamydospo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east cell cultivation in human serum yields distinctive germ tub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th disruption of normal flora, C. albicans overgrows on muco-cutaneous surfaces forming cottage cheese-like dischar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road-spectrum AT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x: Topical antifungals (clotrimazole) or oral fluconaz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33) HIV-1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Human immunodeficiency virus type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protected MS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ffuse maculopapular rash on abd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trovir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p120, gp41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LISA + Western Blo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p120 binds to CD4 which allows it to bind to CXCR4 (T-cells) or CCR5 (T-cells/ M</a:t>
            </a:r>
            <a:r>
              <a:rPr b="0" lang="el-GR" sz="2600" spc="-1" strike="noStrike">
                <a:solidFill>
                  <a:srgbClr val="000000"/>
                </a:solidFill>
                <a:latin typeface="Calibri"/>
              </a:rPr>
              <a:t>φ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 co-recepto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p41 leads to fusion and cell ent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x, IV Drug Use, Congenital spre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x: Combination anti-retroviral therapy (HAAR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35) Salmonella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Salmonella typhimuriu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mily has cramps, vomiting, diarrhea  (blood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e turkey and stuff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m- motile rods, facultative anaerobic, lactase-, oxidase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ool cul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eading cause of food-borne 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lized invasion results in influx of neutrophils, can cause bacteremia w/ LPS inducing sep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ultry, eggs, dai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x: NONE (self-limit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38) E. Coli O157:H7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Enterohemorrhagic Escherichia coli (EHEC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re abdominal cramps, watery turning into bloody diarrhe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te pink hambu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m- rod, Indole+, Lactase+, Sorbitol non-fermen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ool cul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st common cause of bloody diarrhe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ttaches to brush border of intestinal epitheliu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iga-toxins cause endothelial damage leading to blood l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round beef, unpasteurized mil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x: NONE (self-limit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39) Cholera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Vibrio cholera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raveled to Banglades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fuse rice-water diarrhea, vomiting, sweating, cramp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aking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blocker dru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m-, comma-shap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tile, oxidase+, faculatative anaerob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cid-sensi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olera toxin (CTX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ndemic due to O:1 biotype El 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TX activates adenyl cyclase cascade increasing cAMP, accumulate NaCl in lumen leading to dehydr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taminated water/f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ulf coast US: shellfis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x: Rehydration therapy (oral rehydration sol’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42) C. difficile-associated diarrhea (CDAD)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Clostridium diffici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requent diarrhe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rythematous, friable colonic muco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x of broad spectrum ATB treat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m+, spore-forming rod, strict anaerob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xin A, Toxin 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ool sampled for toxin (ELIS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xin B more potent, inactivate GTP-binding proteins causing break-up of actin filaments damaging cellular li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posure to broad-spectrum ATB (clindamycin, cephalo-sporin, ampicilli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x: Metronidaz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46) Amebic Dysentery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Entamoeba histolyt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veled to In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mittent diarrhea with blood and muc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e small hemorrhagic areas with ulcers in sigmoid col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ophozoite in host and infective cyst in fe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yst transforms in small intestine and migrate to large intestine, invading colon causing cell and PMN lysis, can cause flask-shaped ulc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cal-oral transmi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x: Metronidazole and Paromomyc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47) Giardiasis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Giardia lambl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ckpacking in Rock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y diarrhea turning greasy and foul smel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ophozoite pear-shaped, face-like appearance, cysts in st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ool antigen 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ophozoites attach to brush border causing villus atrophy resulting in diarrh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avers, dog feces contaminated w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x: Metronidaz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4) Diphtheria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Corynebaterium diphtheria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cent emigrant w/ unknown immuniz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ellowish, leathery thick membrane in pharyn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ll neck” – bilateral cervical adenopath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m+ clubs, non-motile, non-hemolytic, catalase+, aerob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llurite mediu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ptheria tox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phtheria A-B exotoxin affects Elongation Factor 2 blocking protein synthesis leading to cell necros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pper respiratory droplets, direc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x: Diptheria antitox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48) Cryptosporidiosis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Cryptosporidium parvu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treated AI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ronic watery diarrhe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cid-fast, intracellular, extracytoplasmic coccidian oocys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Ziehl-Neelsen stai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ocysts release sporozoites infecting the jejunum between microvilli, impairing adsorption resulting in water l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ter-borne transmiss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x: IV rehydration, restore H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49) Ascariasis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Ascaris lumbricoid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iginally from Mexic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or appetite, abd pa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osinophil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testinal obstru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matode eggs in sto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rgest human roundw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ggs have “bumpy coat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rvae hatch, invade intestinal mucosa, travel through portal and systemic circulation to lungs and alveolar walls (Loeffler syndrome). Larvae are reswallow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ropical regions, soil, produce, children 3-8 y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x: Mebendaz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50) Strongyloidiasis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Strongyloides stercoral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raveled to El Salvad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w worsening diarrhea, abd pain, fev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osinophil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culopapular rash on groin and buttoc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habditiform larvae with prominent genital primordiu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lariform larvae penetrate skin and migrate to lungs where they are reswallowed into the jejunum causing GI symptoms and can reinfect peri-anall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umid tropical regions, direct contact with soil (walking barefoo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x: Ivermect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51) Hydatid Cyst Disease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Echinococcus granulo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migrated from Argentina raising sheepdog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ever, chills, jaundice, upper abd pa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iver has large multi-loculated cyst with bile duct dil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apeworm, 3 proglotti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ydatid cys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cospheres invade and develop into cysts in liver, lung, brain, etc. Can lead to biliary duct dilation and jaundice, hydatid cysts cause abd pa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g fe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x: Surgery, Albendaz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52) Schistosomiasis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Schistosoma manson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cent immigrant from Keny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osinophil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epatosplenomegaly w/ portal HT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omiting w/ bl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lood tremat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gg w/ lateral spi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ercariae penetrate skin and migrate to veins, eggs migrate but some are trapped and die in tissue causing granulomatous rxn in liver and splee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fected snails in open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x: Praziquant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53) Hepatitis A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Hepatitis A Virus (HAV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ver, jaundice, dark yellow urine, pale s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ght of food triggers naus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ALT and 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corna – ssRNA+ icosahedral caps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patitis panel ser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licates in liver, CTL response, viremia, and eventually clea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ldwide: Poor sanitation, US: Shellfi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x: NONE (self-limit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58) Meningitis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Listeria monocytoge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dache, confusion, no nuchal rigid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x: Steroid use for 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RI show meningeal enhanc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m+, intracellular small rods, grow at 4⁰C,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hemolysis, tumbling motility, ferment gluco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lin, listeriolysin O, phospholip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lin induces host cells to engulf. Phospholipases allows it to escape phagosomes, spread via pseudopods. Killed by T cell-mediated activation of M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ningitis in newbor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ed meat, soft chee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x: Ampicillin + Aminoglycos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67) Osteomyelitis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Staphylococcus aure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reading painful, warm, tender, necrotic-appearing boils on L leg with fev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ne scan shows intense uptake in fem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m+ cocci, clusters, catalase+, coagulase+,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hemolyt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tein A, hemolysins, hyaluronidase, leukocid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common cause of skin infe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bronectin-binding protein causes colonization in skin breaks that invade the mucosal barriers, makes pyogenic exudate, spreads locally or hematogenously to the bone (osteomyeliti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uman nasal carr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x: Nafcillin (Vancomycin if MRS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68) Necrotizing Fascitis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Streptococcus pyoge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re pain, swelling in L thigh, purplish becoming rapidly grayis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m+ cocci in chains, </a:t>
            </a:r>
            <a:r>
              <a:rPr b="0" lang="el-GR" sz="26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hemolysis, facultative anaerobic, catalase-, bacitracin-sensi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yaluronic acid, M-protein, LTA, hemolysin O and S, enzym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TA-M protein binds to epidermis and resist phagocytosis, spread into subcutaneous tissue, dermis, and fascia via hyaluronidase prompting pyogenic inflamma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rect contact, types M1 or M3 common for sk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x: Surgery, Penicillin G (clindamycin if allergi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69) Gas Gangrene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Clostridium perfringe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re pain at colon carcinoma surgery s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olored skin, hemorrhagic bullae, serosanguineous (thin brownish) discharge, extensive gas in soft tiss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m+ box-shaped rods, anaerobic, catalase-, double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hemolysis, deep t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gler rxn (+ lecithina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wel surgery allows anaerobes access to tissue and flourish with facultative anerobes.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toxin has phospholipase C activity on cell membranes, other enzymes produce gas, muscle turns black and gangreno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rmal human colon flo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x: Surgery, Penicillin, Clindamyc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10) Bacterial pneumonia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Klebsiella pneumonia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coholic, homel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ck, blood-tinged sputum (currant jell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UL infiltrate with cavitary lesion (absces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m- short plump bacill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ctase+, Urease+, Indole-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psular polysacchride (CPS), K an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st common Gm- pneumonia, nosocomi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PS are antiphagocytic, molecular mimicry with C3b and prevents alternative complement pathway, inflamm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spiration pneunom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x: Piperacill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71) Ringworm (tinea capitis)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Microsporum can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aised lesions with center nodules and peripherial scaling on hea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ceived dog recent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nomorphic fungi, spindle-shaped macro-conidia, white mo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ood’s light (UV) on hai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eratinases, proteina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ly found in dead layer of epidermis, keratinases allow invasion of keratinized tissue, snake-like, annular, nodular, vesicular les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nd on cats and dog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x: Griseofulvin (concentrates in keratin), OTC drug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72) Sporotrichosis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Sporothrix schencki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ltiple mildly painful erythematous lesions starting from thumb to elbow with lymphangitic streak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umb has dry, shallow, ulcerated le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ngal dark-pigmented mold in soil, cigar-shaped yeasts in tissue, florally arranged microconid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bouraud dextrose ag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se handler’s diseas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ores enter punctured skin and form smooth/verru-cose painless nodules, spread via lymph forming chains of nodules or suppurating granulomas (plasma cells, neutrophil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hagnum moss, hay, thorny pl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x: Itraconaz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76) Native-Valve Endocarditis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Viridans streptococc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ght sweats, “splinter hemorrhage” in fingernail, conjunctival petechia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x: Heart murm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x: Wisdom tooth removal w/ no AT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cho shows 8mm mobile vegetation on bicuspid aortic val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m+ cocci in chains,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hemolytic, optochin-resist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ults from transient bacteremia with preexisting valve abnormality. Minor trauma from turbulence leads to deposition of fibrin and platelets, binding bacteria forming micro-colonies leading to Janeway lesions, Osler nodes, Roth spots, splinter hemorrh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rmal oral/GI flo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x: Bactericidal ATB (Penicillin 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77) Pneumonitis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Cytomegalovirus (CMV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rate respiratory distress, bilateral interstitial infiltr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ived allogeneic bone marrow transplant, taking Bactri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herpesvirus, dsDNA with capsid and env, can progress to lat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ant cells (cytomegalic) with intracellular inclusions (with halo “Owl’s eye”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common cause of post-transplant inf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ltiplies in nucleus, enters latent state in leukocytes/ lymphocytes, can cause interstitial pneumonia on reactivation (spreading to pneumocyt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ose contact with body fluids (saliv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x: Ganciclovir (Foscarnet if resista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78) Lyme Disease (LD)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Borrelia burgdorfer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me in wooded 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ultiple tick bi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ash under armpit with central clea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yalgia, arthralgia, fe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pirochete, moti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spA, Osp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LISA + Western Blo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icks inoculate host, spread outwards and trigger inflammatory cytokines, can cause auto-immune Ab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lack-legged deer-tic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: NE, MN, WI, Pacif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x: Doxycycli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79) Malaria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Plasmodium falciparu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migrated from W Af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nse periodic fevers, drenched in swe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patosplenomega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lized seiz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tozoa with 4 stages: ring (around central vacuole), trophozoite (Schuffner dots), schizont (chromatin dots), gametocyte (crescent-shaped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ck/thin film blood sm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orozoites infect liver cells, mature and invate RBCs (Duffy Ag) and feed on Hg leading to anemia, thrombocytopenia, hypoglycemia, lactic acidosis. Can persist in li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qui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x: Chloroquine (Primaquine for liver infections, mefloquine if resistant, exchange transfusion if sever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81) Leptospirosis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Leptospira interroga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cently returned from boating trip in Aug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 fever, myalgia, severe HA, photophob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wollen conjunctiv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pirochetes, long, thin, motile with hooked en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LISA, microagglutination test (MA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oked ends and flagella allows burrowing into tissues leading to bacteremia followed by inflammatory and immune response which can lead to jaundi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at or livestock uri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x: Oral doxycycline (IV penicillin if sever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82) Pasteurellosis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Pasteurella multoci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 hand and axilla was swollen and ten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x: Bitten by c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m- short rods, oxidase+, encapsu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colate ag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polar sta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ymicrobic, capsule and endotoxin trigger inflammation with purulent drain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ts (sometimes dog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x: Penicillin 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84) Smallpox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Variola maj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pulovesicular lesions on face and extremities at same stage of development, bumpy lesions filled with opaque flu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ready had chickenpo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rpes, linear dsDNA, dumbbell-shaped c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adicated worldw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week-long incubation, flu-like symptoms, maculo-papular rash on face, palms, so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terrorism ag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x: NONE (self-limit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85) Plague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Yersinia pest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ves in Arizo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inful L groin mass, firm and ten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all hemorrhages on skin of R le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m- “safety-pin” shaped, nonmotile, oxidase-, ferment glucose, reduce nitr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1 glycoprotein, protease, coagulase, exotox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ight st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1 avoids phagocytosis and multiplies in M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spread to lymph nodes forming “buboes” and can cause bacteremia, widespread petechial lesions from vascular necrosis if system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dents, carnivores, cats, dogs are animal reservoi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lea vec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x: Streptomyc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15) Post-Primary Tuberculosis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Mycobacterium tuberculo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nt emigr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ver, cough, night sweats, weight lo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ronic cough w/ blood-tinged sput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UL infiltr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id-fast, long bacilli c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ltinucleated giant ce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d Factor, phenolic glycolipids (LA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ects macrophages (recognize LAM) inhibits phagolysosome fusion, cord factor damages PMNs, form granulomas w/ large multinucleated giant ce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irborne transmi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x: Isoniazid+Rifampin+ Pyrazinamide+Ethambutol empirically, later INH+RIF only if suscept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88) Hantavirus Pulmonary Syndrome (HPS)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Sin Nombre Vir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ver, malaise, muscle aches, hypotension, S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mping in rural NM with deer m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lateral interstitial infiltrates with hilar indistinct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ft-shift (22% band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nyavirus, spherical, circular ssRNA-, triple-segmen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rology, RT-PC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tach to cells at b3 integrin receptor, replicate in cytoplasm, initiate TNF, IL-2 response. Activated CD8 T-cells produce holes in infected pneumocytes leading to bilateral infiltrates, left-shift, thrombocytopenia, pulmonary edema, hemoconcen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dent urine or dropp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x: Supportive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91) Severe Acute Respiratory Syndrome (SARS)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ARS Coronavir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ild SOB, hypox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x: Care of patient with severe respiratory illn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ilateral lower lobe interstitial infiltr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ronavirus, ssRNA+, enveloped with club-shaped peplomers, nonsegmen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fection leads to diffuse alveolar damage (DAD), multinucleated giant cells with no viral inclusions, squamous metaplasia, increased fibros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spiratory drople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x: Supportive C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17) Histoplasmosis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Histoplasma capsulatu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5 workers demolish building near Ohio ri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igeon dropping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ultiple nodular infiltrates, cavitary lesion in RML, popcorn calcifi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ld in soil, yeast in huma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iemsa, Wright stai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easts grow in inactivated macrophages (histiocyte) causing granuloma formation, disseminate via lymph, cytokin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hio/Mississippi river valleys, soil with bat/bird dropping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x: Itraconazole (Amphotricin B if sever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18) Blastomycosis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Blastomyces dermatitid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nnessee landscap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inful R arm verrucous skin lesion, pustul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ultiple nodular cavitating lesions in LU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responsive to cefuroxime/erythromyc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ite fluffy mold, large budding yeast in huma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utrophils recruited forming suppurative/ granulomatous inflammation, focal microabscesses in papillary derm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 US, wooded are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x: Itraconazole (Amphotericin B if sever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19) Coccidioidomycosis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Coccidioides immit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cently visited Arizo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rythema nodosum on bac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filtrates in both lungs, large cavity in RU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ranching septate hyphae mold in soil, non-budding spherules in humans forming endospo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pherule in terminal bronchiole causes chronic granulomatous inflammation, can disseminate to sk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W US, arid soil around rodent burrow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x: Itraconazole (Amphotericin B if sever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22) Pneumocystis Pneumonia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Pneumocystis jirovec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s AIDS with thr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lateral air-space consolidation with interstitial/alveolar markings “ground glas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gus, 5-8 um cysts containing intracystic sporozoi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emsa, Silver, DFA st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here to Type I pneumocytes, cysts rupture and fill alveoli, decrease surfactant secretion forming foamy exu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munocompromi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x: TMP-SM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26) Secondary Syphilis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Treponema pallidu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ultiple sexual part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x of painless ulcers on vulv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culopapular rash on palms and soles, pustular lesions and condylomata lata on f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pirochetes, obligate  human pathog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ipoprotei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PR, VDRL tes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ancre, indurated painless ulcer, indicated in primary syphili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pread by lymph and blood leads to a maculopapular rash in secondary syphili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urosyphilis (teritiar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xual, congenital spre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x: Penicillin G (doxycycline if allergi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2:23:46Z</dcterms:created>
  <dc:creator>JP</dc:creator>
  <dc:description/>
  <dc:language>en-US</dc:language>
  <cp:lastModifiedBy>JP</cp:lastModifiedBy>
  <dcterms:modified xsi:type="dcterms:W3CDTF">2008-11-11T16:37:08Z</dcterms:modified>
  <cp:revision>114</cp:revision>
  <dc:subject/>
  <dc:title>Problem-Based Microbiology</dc:title>
</cp:coreProperties>
</file>